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F76-689B-4A64-8A4E-4928B703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F5A-5C43-4DE9-814F-B44562F6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8BC-D24B-400A-8493-2A8D237B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B77-4672-4E03-961F-1D5B4148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F98BE-FAC4-4BEE-9983-34227D65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6DA23-CF39-43D8-9F30-C41B1299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D37D7-4F0F-4C1D-B304-89AA05CE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DD0D3-AB5C-439D-85BA-070C5594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01D61-D621-481A-AE81-3BADF1B5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FEC02-C888-49D1-AA05-DEEEB8C0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49007-913A-4592-86AE-C24F4BC5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E73-586A-401E-A757-031E0930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4D5EC-B7CB-40B3-A791-F64E277E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3E8C1-282C-44C1-8017-3FC3042B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E5341-D98C-4E04-AE04-CAF6BDDD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CB6FB-C11E-48AE-BCD7-1B2BD58E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3332E-AA89-48BA-95B1-A888A579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F24-87F8-46CF-95BD-E459C262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6F8-9B70-49FA-A0B8-2CE66660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7C8-C726-4A02-9EB6-B9F0E959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1E8-3475-4CF3-9C69-879B4EA3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7EF-0AF4-4783-98A4-2BCA0BD8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D4D-FB63-4FFA-AF91-E1374A37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5C4-B8A2-4FE9-9C91-46DDC1AB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B531-FD5D-406F-BA5F-67F32C9BCC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14EC-2F89-4AEA-8D7A-148F1179E1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lish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 Learning Profi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92199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Arial"/>
              </a:rPr>
              <a:t>My Personal Learning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My learning style is tactile/kinesthe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This means that I learn best by do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My learning technique is Abstract Sequ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That means that I am realistic, orderly, logical and careful of detai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t’s important to learn how your brain works beca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 can use what I have learned I can do this when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about the way my brain works in school.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ge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371600"/>
            <a:ext cx="72392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 found out that both the left and right hemispheres of my brain are equally dominat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t’s important to learn how your brain works because  I can use it for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 can use what I have learned and  I can do this when I study or choose a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8:07:44Z</dcterms:created>
  <dc:creator>Stephanie Ann Rhodes</dc:creator>
  <dc:description/>
  <dc:language>en-US</dc:language>
  <cp:lastModifiedBy>Stephanie Ann Rhodes</cp:lastModifiedBy>
  <dcterms:modified xsi:type="dcterms:W3CDTF">2010-10-27T17:59:49Z</dcterms:modified>
  <cp:revision>11</cp:revision>
  <dc:subject/>
  <dc:title>Alisha</dc:title>
</cp:coreProperties>
</file>